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F120-FD27-486C-B8CA-D53620F8B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D1BC-7EFB-46EB-9830-6BC2CCD6D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F21-107F-4DFA-8758-5BA92A83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9C2-916E-40F2-9F0A-5E3056E9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3FA-C385-4B7F-A80A-1D90F656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981-13E9-4F90-AA29-CA0E2A4C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C00-F55C-4268-826D-B79042E8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735-1B39-4B36-93E4-AF6E09DE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BF7-8E9D-4FDF-AB08-0416D00F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059-7066-4A67-89B1-46B35127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750-6F63-42DE-9ED1-7FE53109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C82-1852-4ED4-99B2-3952713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5F7-D801-4CCC-A2B8-8AD42CBB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5B3-021C-47D6-9805-0B8D52AA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0346-F71C-4124-BB33-F98D82885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985680" y="4241880"/>
            <a:ext cx="2281320" cy="85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3746520" y="3459240"/>
            <a:ext cx="1084320" cy="61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629160" y="51116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102280" y="55562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6564240" y="516744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6778800" y="4307040"/>
            <a:ext cx="1298520" cy="52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5083200" y="4649760"/>
            <a:ext cx="1197000" cy="42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1447920" y="2163600"/>
            <a:ext cx="2280960" cy="85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611360" y="2230560"/>
            <a:ext cx="1763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ource (sentence where you saw the word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935520" y="3591000"/>
            <a:ext cx="7696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WOR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098720" y="4319640"/>
            <a:ext cx="971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322960" y="4713120"/>
            <a:ext cx="75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805200" y="5232240"/>
            <a:ext cx="1122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ord Famil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6929280" y="4394160"/>
            <a:ext cx="1017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art of Speec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929280" y="5232240"/>
            <a:ext cx="731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tem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5405400" y="5613480"/>
            <a:ext cx="881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rigi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741840" y="2946240"/>
            <a:ext cx="358560" cy="53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4401720" y="3022560"/>
            <a:ext cx="38916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4724280" y="2570040"/>
            <a:ext cx="22813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5329080" y="174456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303880" y="362592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4862520" y="2668680"/>
            <a:ext cx="11858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efini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5556240" y="1820880"/>
            <a:ext cx="920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5632560" y="3713040"/>
            <a:ext cx="906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6084720" y="236052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6035760" y="3427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H="1">
            <a:off x="3271680" y="3921120"/>
            <a:ext cx="52560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692600" y="3976560"/>
            <a:ext cx="73044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935680" y="5104800"/>
            <a:ext cx="625320" cy="32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5713560" y="507528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6243480" y="462276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 flipH="1">
            <a:off x="4800240" y="5029200"/>
            <a:ext cx="2286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59:51Z</dcterms:created>
  <dc:creator>Kimberley Chandler</dc:creator>
  <dc:description/>
  <dc:language>en-US</dc:language>
  <cp:lastModifiedBy>Kimberley Chandler</cp:lastModifiedBy>
  <dcterms:modified xsi:type="dcterms:W3CDTF">2011-06-02T09:47:45Z</dcterms:modified>
  <cp:revision>3</cp:revision>
  <dc:subject/>
  <dc:title>Literature Web - Full Form</dc:title>
</cp:coreProperties>
</file>